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CF0-037D-490B-9861-CA54D1C8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4AC-3A57-4536-A05C-A1EF011E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2A7-C10E-4EC0-8DA3-257939CE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F11-D135-40CE-8D3B-A1BF3A07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3CDF-7B54-4361-87C6-8307F220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76D7-012B-4DD9-9578-41DECCA8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2F99-1253-46B4-829C-2BEC112F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0166-3D25-4FE1-AD78-082319F1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7D09-B417-4F4C-89C5-F62B7AC1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3DA3-A0D2-4FA0-A5AB-E7159B11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8F35-9BCB-40F7-AD65-C523CC31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735-C701-4BA9-8452-F59A18A4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9315-7C5A-4952-83AA-80EEFFED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1361-6FCA-4E99-B900-0A2FD978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A304-E410-4E3D-80C3-D3354A14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2CF2-08A6-4390-8AEE-4C929B92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EBFF-6BC6-4415-92DA-D4113BC7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550-E169-4EFD-A3BA-0960D1BA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1CE-3943-4560-92F1-EC639AE7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BE1-E2D0-4532-9FDE-9650229E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102-0123-4116-923C-0C783F7C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82A-36E9-4859-ADA2-B88CAB5F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41A-6294-4ADF-8F32-343862C4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8D9-B341-4204-B413-933329C4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6F32-18D2-419C-9B17-604098B7EE7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B9F1-06F8-4855-8A62-3809F1D6FDA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3" name=""/>
          <p:cNvSpPr/>
          <p:nvPr/>
        </p:nvSpPr>
        <p:spPr>
          <a:xfrm>
            <a:off x="3995640" y="0"/>
            <a:ext cx="5148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حنانك يا رب الأكوا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رحتُ منايَ وآمال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ديكَ وكلّ رجائ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18000" y="2133720"/>
            <a:ext cx="556236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أنتَ ملاذي ومآل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ليكَ وفيكَ نج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18000" y="1844640"/>
            <a:ext cx="5562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نا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 الأكو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ليكَ رفعتُ صل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46360" y="1844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إن أحيا فبالإيم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شرِّفُ معنى ح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18000" y="1844640"/>
            <a:ext cx="5562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نا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 الأكو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ليكَ رفعتُ صل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46360" y="1844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إن أحيا فبالإيم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شرِّفُ معنى ح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2084400"/>
            <a:ext cx="48974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سمعتُ نداءَك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جلجِلُ في أعماق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060640"/>
            <a:ext cx="48974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صدىً يتجاوب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ي قلب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ع النغ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خفّاق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95640" y="1989000"/>
            <a:ext cx="5148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فسرتُ بهَديك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في درب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وبي ظمأ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الـمشتاقِ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لـمنهَلِكَ الصافي العذب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أروّي ب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أمن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18000" y="1844640"/>
            <a:ext cx="5562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نا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 الأكو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ليكَ رفعتُ صل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46360" y="1844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إن أحيا فبالإيم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شرِّفُ معنى ح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63640" y="2133720"/>
            <a:ext cx="556272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روّعني صخبُ البحر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صوتُ قصيف الرعود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2133720"/>
            <a:ext cx="556272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آنسُ منك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ع الفجر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فيضِ الرضى والجود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يا مبدع الكون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َن يدر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بسرِ وجودي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2205000"/>
            <a:ext cx="505908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كم ف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رب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ن سر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آياتٍ مذهلات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18000" y="1844640"/>
            <a:ext cx="5562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نا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 الأكو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ليكَ رفعتُ صل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46360" y="1844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إن أحيا فبالإيم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شرِّفُ معنى ح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إلهي إن أدعو فما لي سواكَ مجيب ندائي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1989000"/>
            <a:ext cx="6300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وحين أنوءُ بأثقالي فلي برضاك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عزائ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01:34Z</dcterms:created>
  <dc:creator>Charbel Azar</dc:creator>
  <dc:description/>
  <dc:language>en-US</dc:language>
  <cp:lastModifiedBy>ف</cp:lastModifiedBy>
  <dcterms:modified xsi:type="dcterms:W3CDTF">2006-11-13T21:30:57Z</dcterms:modified>
  <cp:revision>11</cp:revision>
  <dc:subject/>
  <dc:title>PowerPoint Presentation</dc:title>
</cp:coreProperties>
</file>